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B3214-A20D-4C1A-BB01-D3195AF90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B0381-D385-4C7A-9867-4BE139AF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567501-8B6F-4853-9203-130F160E2B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33FF1-D88B-4D2E-A42B-3EB4ACCB60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30F35-EFF4-42D0-AF59-F9077A3FC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18FD9-076D-4D5B-8CB0-AB475B123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3E7C7-24F9-4976-9E95-B3C91B7D53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021CF-360C-4D20-A093-43C5C4E8AC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89B7EA-DDA7-4F75-8D6E-0B2E52A33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710EA7-9918-4220-BD04-5FE44000DD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F5ACF-52AB-4685-A521-D01A5020D9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B916FE-5FC1-4485-8274-084E3C6AEF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AEF79-4857-46C0-8E2A-0A09DAD09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45FC6C-4B63-482B-A0B0-5B0DD4E4C5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A49AB3-A903-4AAC-89AA-2BDBB3F198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CCFEDF-5ACF-4798-8562-DE2C5D8050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886ADE-1E1C-4B9E-8771-20E6720FE3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1AAE86-AC45-4400-8544-B69423BA3C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FD62F5-33E8-41AD-9F52-0030C36B93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956068-716D-46FC-9647-9CEE824E29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639F1D-E104-41CC-AF5A-137616666A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1ACE7C-A5F7-415C-945F-DE5889A4C9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CF9224-9B09-40DC-9621-87C6FA3068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8C44-9885-4374-B5D7-291639799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431D40-127E-4BDE-9CFA-CCD6EC0B0A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D9D448-2898-40F3-9AC0-4F07A33AAC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89F430-EA88-4007-BC3A-C1BB910422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DDDACE-000A-436A-AC0D-3DAD0F7ECB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135016-9AE8-4904-9C8F-2C9B27EF4A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578539-D17C-4235-8AA8-86C26C49C2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A0B2F0-044C-4662-88CA-32599A8C3C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A1F7F5-154D-4915-A2E6-4529C57333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6DC1A6-270B-473D-BFE6-FB0E7BC956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3435B-F766-4856-87FC-9631DFF248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8E91C-25A6-47C9-B5AC-89496CEB8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5F1BC3-DD2C-4424-BE7B-65CFE68B3C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F0B061-EFD3-4610-838C-1A8022635A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B34E7C-F2CB-4B0F-B1B4-C4E50440EA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6FA6FD-1C37-4C46-8416-6E9E794845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F4FD89-9449-419A-957D-E9D3023540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7A00CF-EBAD-427D-A279-D0C26FA81B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B4EBE0-8F05-4561-BB5E-1CF13A61E6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F8C83E-1023-4492-9A15-9659C66C0C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C5220C-098F-47CF-876B-DFC9056207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6C9F23-4D04-4EAD-B67F-03061483BF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55043-2D00-4E37-B20F-058D97196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A14E02-A6FD-4CAE-8655-D101C5DCC2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526E3A-AF94-43A1-9D6E-FCFE5324F2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426441-DB0A-403F-BD75-EC2750D086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FA2200-7377-4213-99A1-4044BC4A94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960E31-2BF0-431A-93AB-C294924C0C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25DC9-8080-454D-B40D-7B480DF15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11CD-16BC-41CA-9C73-D7E95A56A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E2B58-E16E-40FA-87E8-99E4812BF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8C91F-E36B-4DB8-A5D0-5BDCCEB8E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D6A1-0535-43EC-A401-0162AA90F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E6E6-113D-4DE8-B2B4-25DF6B5E7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2B12-9614-4B83-9902-0E18A6054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A8C04-D14C-4B90-A927-CF7BFEEC5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20C7D-6CC0-4014-9BB7-9972FD7D0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C8392-3E3A-45A8-9F6D-9C69B222D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AA705-C068-4C48-9BF6-41CAFB911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4EC78-1857-490F-A000-CF665E7C4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CFC8F-E057-4AE9-A90A-B53BB8B9B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9863B-803E-473C-9C1E-9548CDFCF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D1946-26D7-47E1-AFF8-F927CA7E8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55AFE7-48D9-4083-A373-0A0EBA9CC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BEA0-FBCB-4C6C-87E6-C94F6783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B9553-2B68-4152-89B7-AAD915066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5C55B-7AA1-4E85-9FDE-9357A9CD5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F80CB-7A5A-42D7-AD81-BFBBFAF54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A52BA-4EF5-4EA3-8374-DE977A3D8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10ADE-ED49-4904-A9D4-D5ABE04E9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6222EF-76F5-4795-BF5C-A5020B9B2E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868BC-D436-4FF2-B9F7-B8E65C9C44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A2C779-9649-449E-84E2-C57BA409B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3CD06-D966-41CA-A764-8BF91DDAE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0BA36-411C-4362-AA45-5B927BB46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0FDB7-7071-46DA-8461-4B8223CFA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868DC-E337-4640-9B7C-F58453F14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449D1-6756-4738-B570-7E1D4741D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9060D-05CB-4A88-BF24-58D113EFC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17506-9809-4832-A467-64FFC6097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F0242-047D-44F0-8C2C-3EEA0B457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890CF-DA22-4A5E-A7B3-59978C064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01D81-CC11-4333-901C-1931FBB34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6E0BB-1E2C-473D-B6CB-99D508DD8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B071B7-1592-4ADF-AFFC-D0643AE45F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3251C1-E032-41CF-ABD2-A03CB302A9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54856-0503-4668-9A31-FC9F96E72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B7C421-7CCA-42DF-84C2-CE90A6854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8F83E-8D18-4DDC-A201-3ED23897F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0FA47-4427-4571-A528-AE0BFF3E8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022B4-0240-4979-BD9F-0A594830C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2B2F7-5741-48E5-9FEA-73EB730BB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CAFA5-51C6-469A-AB87-E6E0B63D4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78AAD-49DB-4971-BE24-BFB23F0FC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61E9E-8EEA-4D3D-8FF2-485CB58E7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91BE9-80ED-4169-8716-4DDC8A17B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7346A7-5DB1-4BCB-A160-3089EB573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2964-095A-41F1-9C39-3B61AC71F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68DE82-533B-4CD8-87EE-1EBAEAD18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46E467-8BA8-4D75-A043-350CB96C1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28A30-186A-4ECD-A1EB-10435FC73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840EE-1B1E-41B9-AA46-63660AEEF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75127-3A2C-4591-A2D8-FDF9BD12B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DA52B-4F76-4695-B643-41F846510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8EB4C5-991C-4D8E-8A72-48F984D52B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89220-F701-4110-85DF-A9EA73B3B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65673-FA8B-42F5-93CF-AD1D4B43C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3587B-63AE-470D-A53A-0253C8074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C3F0-483B-44F5-B81A-C74E1E8A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209FC5-5558-4B3F-BF72-E2A2640C4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9DD5A-54D0-4494-9C02-36068923A3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24A0ED-4293-4C2D-9DB8-A68339BB7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B0AD50-E059-439F-A16B-933631C2E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C99F8-9D23-446C-80AD-C02294851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73CEE-94C0-4630-867A-2AFE9491F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B4162-C822-41E2-A76F-40FF55899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D96F7-5635-4A0E-B0DF-4723E3F03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EE638-074A-44B1-A4E1-734518ED3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7F1AB-3C76-42C2-A939-EA85F2578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2594-A161-4B5D-832B-DD2B14A7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B635C-7E9C-45F8-8614-9E7BE835C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D8758-4669-4D5C-A608-9BAE37FA8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A87F4A-13DC-452A-B817-C4E62F96FA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D7D48-40CA-40D3-99C7-EE1BFC747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565E1D-5D23-4276-82E6-C5361259D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B5B6AF-6FA0-43DD-94B7-8941448503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B85686-295B-4F15-82A4-600B0A8A7B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B52075-CE7F-40C4-ABF9-1BE1D2FBA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E1246-44EA-4396-B94C-4FAA323A5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E16EF-DFF0-46BA-8EE9-C48228312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983F-200F-4B69-A749-631B6AE8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207E2-4E69-4084-A051-574F6AE74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FB1E0-2D9A-49C7-9379-BEB9D2B96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E4451-A8EB-4318-BCA3-E3E5BAF3E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DA2CB-A36F-4727-9A2E-02825DA71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35BCE-BBEB-40F6-AEAF-2AD835EA5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6ECD95-6E29-4E87-B261-F62027078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9E8890-15A7-4488-B4EF-6042BE5DED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A090AA-C98A-4339-88DA-223EAFFE8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4FFC1-B59E-48BB-B61C-5BCA0F8D35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FBCC8D-D8E9-4907-9B39-97667ABA78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8B2EA-7435-4614-9523-C5774193820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F460E-25A0-4D9A-8033-86B72C940284}"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491AA-F9B5-49A0-ACDA-71261710F4B9}"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2"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4"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E332-0220-4A8F-80DB-43F2BADCB8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E6F9-A7C6-4BE0-A07B-0491339F4563}"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A518C-5DE3-418D-9F72-2A4E49549181}"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B17C0-22AF-4C8D-A973-2F38E88F99C5}"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43404-7439-4BF3-90CC-1EF005EB0078}"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60573-0AD0-4188-A206-E3AC4FC1B509}"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E6B98-B6E2-4E61-91DA-249047BE84D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073A2-3979-4569-8A0C-72D40154C902}"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4B6B1-CF3F-4CD1-8C29-C7D337B41CDF}"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s://lege5.ro/Gratuit/g4ztombzgq/legea-nr-219-2015-privind-economia-sociala" TargetMode="External"/><Relationship Id="rId2" Type="http://schemas.openxmlformats.org/officeDocument/2006/relationships/hyperlink" Target="https://lege5.ro/Gratuit/g4ztombzgq/legea-nr-219-2015-privind-economia-sociala" TargetMode="External"/><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9400" y="905040"/>
            <a:ext cx="10993320" cy="9331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REGLEMENTĂRI LEGALE PRIVIND ACTIVITATEA DE ANTREPRENORIAT SOCIAL ÎN REPUBLICA MOLDOVA ȘI ALTE STATE EUROPENE.</a:t>
            </a:r>
            <a:endParaRPr b="0" lang="en-US" sz="2000" spc="-1" strike="noStrike">
              <a:solidFill>
                <a:srgbClr val="ffffff"/>
              </a:solidFill>
              <a:latin typeface="Gill Sans MT"/>
            </a:endParaRPr>
          </a:p>
        </p:txBody>
      </p:sp>
      <p:sp>
        <p:nvSpPr>
          <p:cNvPr id="570"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DINU MANOLE, FORMATOR</a:t>
            </a:r>
            <a:endParaRPr b="0" lang="en-US" sz="1600" spc="-1" strike="noStrike">
              <a:solidFill>
                <a:srgbClr val="3d3d3d"/>
              </a:solidFill>
              <a:latin typeface="Gill Sans MT"/>
            </a:endParaRPr>
          </a:p>
        </p:txBody>
      </p:sp>
      <p:pic>
        <p:nvPicPr>
          <p:cNvPr id="571" name="Picture 3" descr=""/>
          <p:cNvPicPr/>
          <p:nvPr/>
        </p:nvPicPr>
        <p:blipFill>
          <a:blip r:embed="rId1"/>
          <a:stretch/>
        </p:blipFill>
        <p:spPr>
          <a:xfrm>
            <a:off x="3308400" y="3125880"/>
            <a:ext cx="5397480" cy="322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 </a:t>
            </a:r>
            <a:r>
              <a:rPr b="1" lang="ro-RO" sz="1800" spc="-1" strike="noStrike">
                <a:solidFill>
                  <a:srgbClr val="3d3d3d"/>
                </a:solidFill>
                <a:latin typeface="Gill Sans MT"/>
              </a:rPr>
              <a:t>SRL „Taina Codrului” ÎSI (fondator AO ”Ciorești - Baștina mea!”;</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Floare de cireș” ÎSI (fondator AO ”Eco-Răzeni”);</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Eco Life for You” ÎS (fondator AO ”Inițiativa pozitiv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d3d3d"/>
                </a:solidFill>
                <a:latin typeface="Gill Sans MT"/>
              </a:rPr>
              <a:t>SRL „HomeMade” ÎSI (fondator AO ”Caroma Nord”).</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erințele pentru înregistrarea SRL și cooperativelor sunt stipulate în Legea nr.220/2007 privind înregistrarea de stat a persoanelor juridice şi a întreprinzătorilor individuali, cerințe pentru obținerea statutului de ÎS - în art.36³ din Legea nr.845/1992.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3"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Statutul de întreprindere socială sau întreprindere socială de inserție se obţine din momentul emiterii deciziei de înscriere a sintagmei „Întreprindere socială” sau „Întreprindere socială de inserţie” în actele de constituire ale organizaţiei necomerciale, societății cu răspundere limitată sau cooperativei de producție, şi efectuarea înscrierii respective în registrul de stat.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reprezentanților ASP, legea nu poate prevedea reglementări separate pentru ÎS și ÎSI, întrucât la momentul înregistrării nu este determinată intenția persoanei juridice de a obține acest statut.</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5" name=""/>
          <p:cNvSpPr txBox="1"/>
          <p:nvPr/>
        </p:nvSpPr>
        <p:spPr>
          <a:xfrm>
            <a:off x="580680" y="2180880"/>
            <a:ext cx="11030040" cy="3678120"/>
          </a:xfrm>
          <a:prstGeom prst="rect">
            <a:avLst/>
          </a:prstGeom>
          <a:noFill/>
          <a:ln w="0">
            <a:noFill/>
          </a:ln>
        </p:spPr>
        <p:txBody>
          <a:bodyPr anchor="ctr">
            <a:normAutofit/>
          </a:bodyPr>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Modificările la documentele de înregistrare ale SRL cu statut de întreprindere socială și întreprindere socială de inserție sunt supuse aceluiași regim juridic ca și în cazul SRL obișnuite, în condițiile Legii nr.220/2007 privind înregistrarea de stat a persoanelor juridice şi a întreprinzătorilor individuali. </a:t>
            </a: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gn="just">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art.4 din legea menționată, pentru înregistrarea modificărilor în actele de constituire, ÎS achită aceleași taxe, ca și ceilalți antreprenori. Situația e puțin probabil să fie schimbată, atât timp cât există doar 4 entități de acest fel. </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7" name=""/>
          <p:cNvSpPr txBox="1"/>
          <p:nvPr/>
        </p:nvSpPr>
        <p:spPr>
          <a:xfrm>
            <a:off x="580680" y="2180880"/>
            <a:ext cx="11030040" cy="3678120"/>
          </a:xfrm>
          <a:prstGeom prst="rect">
            <a:avLst/>
          </a:prstGeom>
          <a:noFill/>
          <a:ln w="0">
            <a:noFill/>
          </a:ln>
        </p:spPr>
        <p:txBody>
          <a:bodyPr anchor="ctr">
            <a:normAutofit/>
          </a:bodyPr>
          <a:p>
            <a:pPr marL="304920" indent="-304920" algn="just">
              <a:spcBef>
                <a:spcPts val="7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3d3d3d"/>
                </a:solidFill>
                <a:latin typeface="Gill Sans MT"/>
              </a:rPr>
              <a:t>Totodată, în cazul în care ar exista o lege specială, prin analogie cu prevederile art. 13 alin.(3) din Legea 86/2020 cu privire la organizațiile necomerciale, ar fi posibilă exonerarea întreprinderilor sociale de la plata taxei de stat pentru înregistrarea modificărilor în actele de constituire.</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99" name=""/>
          <p:cNvSpPr txBox="1"/>
          <p:nvPr/>
        </p:nvSpPr>
        <p:spPr>
          <a:xfrm>
            <a:off x="580680" y="2180880"/>
            <a:ext cx="11030040" cy="36781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ecanismul de reglementare legală a finanțării directe de către stat a OSC constituie una dintre determinantele relației dintre stat și organizațiile necomerciale. </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Legea nr.86/2020 cu privire la organizațiile necomerciale stabilește posibilitatea acordării de către stat a sprijinului financiar și material organizațiilor necomerciale pentru dezvoltarea organizațională a acestora și implementarea proiectelor conform priorităților stabilite pentru fiecare domeniu de dezvoltare. Resurse alocate în acest scop sunt prevăzute în bugetul de stat și în bugetele unităților administrativ-teritori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1"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O formă de susținere a statului ar fi extinderea mecanismelor de subvenționare prevăzute pentru întreprinderile specializate ale Societăţii Invalizilor din Republica Moldova, Societăţii Orbilor din Republica Moldova şi Asociaţiei Surzilor din Republica Moldova asupra întreprinderilor sociale și întreprinderilor sociale de inserție.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Art.36 din Lg 60/2012 privind incluziunea socială a persoanelor cu dizabilităţi prevede că statul subvenţionează parţial procurarea utilajului şi a materiei prime, crearea locurilor de muncă, de asemenea compensează parţial contribuţiile de asigurări sociale de stat achitate de către întreprinderile specializate ale Societăţii Invalizilor din Republica Moldova, Societăţii Orbilor din Republica Moldova şi Asociaţiei Surzilor din Republica Moldova, precum şi de către întreprinderile sociale de inserţie al căror capital social este deţinut în proporţie de 100% de societăţile şi asociaţiile obşteşti ale persoanelor cu dizabilităţi, create pentru realizarea scopurilor statutare proprii, în cadrul cărora 50% şi mai mult din numărul total al lucrătorilor angajaţi sînt persoane cu dizabilităţ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Suportul indirect este exercitat prin câteva modalităţi: </a:t>
            </a:r>
            <a:endParaRPr b="0" lang="en-US" sz="20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ul pe venit - în Austria ÎS (Asociaţiile Obşteşti deţinătoare ale Statutului de beneficiu public şi Not-for-Profit Limited Liability Company) sunt scutite de plata impozitului pe venit, dacă: (i) scopul activităţilor este de a susţine beneficiul public; (ii) activităţile economice pe care le realizează sunt necesare pentru obiectivele de beneficiu public; (iii) activităţile nu generează probleme sub aspectul competiţiei distorsionate;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Donaţiile - în majoritatea statelor vizate, persoanele juridice şi fizice pot deduce un anumit procent (diferă 10-20%) din venitul impozabil pentru scopur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Impozite pe proprietatea imobiliară - în majoritatea statelor, ÎS sunt scutite de plata impozitelor pe proprietatea imobiliară în cazul în care imobilul este utilizat pentru activităţi de beneficiu public; </a:t>
            </a:r>
            <a:endParaRPr b="0" lang="en-US" sz="1600" spc="-1" strike="noStrike">
              <a:solidFill>
                <a:srgbClr val="3d3d3d"/>
              </a:solidFill>
              <a:latin typeface="Gill Sans MT"/>
            </a:endParaRPr>
          </a:p>
          <a:p>
            <a:pPr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TVA - În majoritatea statelor există scutiri de la plata TVA pentru Asociaţiile deţinătoare de statutul de utilitate publică. În cazul altor entităţi, există doar anumite bunuri şi servicii scutite de plata TVA, care sunt, de exemplu, echipament ştiinţific, alt echipament de cercetare în domenii vitale, precum domeniul sănătăţii. </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5"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ulte țări europene au dezvoltat domeniul economiei sociale, aceasta ajungând să se realizeze prin diverse forme.Abordarea anglo-saxonă a economiei sociale se bazează pe conceptul de organizaţii non-profit.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Acest model diferenţiază întreprinderile sociale de sectorul privat; pe baza sprijinului voluntar și a beneficiilor de a se concentra asupra zonelor dezavantajate sau asupra grupurilor vulnerabile, activitatea implică în mod frecvent dezvoltarea comunităţii sub forma resurselor financiare și uma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Modelul scandinav (Suedia, Danemarca, Finlanda și Norvegia), are scopul de a satisface nevoile de servicii sociale ale comunităţii și de a promova solidaritatea socială și egalitatea între sex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7" name=""/>
          <p:cNvSpPr txBox="1"/>
          <p:nvPr/>
        </p:nvSpPr>
        <p:spPr>
          <a:xfrm>
            <a:off x="580680" y="2180880"/>
            <a:ext cx="11030040" cy="3678120"/>
          </a:xfrm>
          <a:prstGeom prst="rect">
            <a:avLst/>
          </a:prstGeom>
          <a:noFill/>
          <a:ln w="0">
            <a:noFill/>
          </a:ln>
        </p:spPr>
        <p:txBody>
          <a:bodyPr anchor="ctr">
            <a:normAutofit/>
          </a:bodyPr>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Georgia"/>
              </a:rPr>
              <a:t>Rezultate palpabile pe segmentul economiei sociale există și în România. </a:t>
            </a:r>
            <a:endParaRPr b="0" lang="en-US" sz="2000" spc="-1" strike="noStrike">
              <a:solidFill>
                <a:srgbClr val="3d3d3d"/>
              </a:solidFill>
              <a:latin typeface="Gill Sans MT"/>
            </a:endParaRPr>
          </a:p>
          <a:p>
            <a:pPr algn="just">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828282"/>
                </a:solidFill>
                <a:uFillTx/>
                <a:latin typeface="Georgia"/>
                <a:hlinkClick r:id="rId1"/>
              </a:rPr>
              <a:t>Legea economiei social</a:t>
            </a:r>
            <a:r>
              <a:rPr b="0" lang="ro-RO" sz="2000" spc="-1" strike="noStrike" u="sng">
                <a:solidFill>
                  <a:srgbClr val="828282"/>
                </a:solidFill>
                <a:uFillTx/>
                <a:latin typeface="Georgia"/>
                <a:hlinkClick r:id="rId2"/>
              </a:rPr>
              <a:t>e</a:t>
            </a:r>
            <a:r>
              <a:rPr b="0" lang="ro-RO" sz="2000" spc="-1" strike="noStrike">
                <a:solidFill>
                  <a:srgbClr val="000000"/>
                </a:solidFill>
                <a:latin typeface="Georgia"/>
              </a:rPr>
              <a:t>  prevede stabilirea măsurilor de promovare şi de sprijinire a economiei sociale. Economia socială reprezintă ansamblul activităţilor organizate independent de sectorul public, al căror scop este să servească interesul general, interesele unei colectivităţi şi/sau interesele personale nepatrimoniale, prin creşterea gradului de ocupare a persoanelor aparţinând grupului vulnerabil şi/sau producerea şi furnizarea de bunuri, prestarea de servicii şi/sau execuţia de lucrăr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573"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09"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346c8a"/>
                </a:solidFill>
                <a:latin typeface="Gill Sans MT"/>
              </a:rPr>
              <a:t>În România </a:t>
            </a:r>
            <a:r>
              <a:rPr b="0" lang="ro-RO" sz="2400" spc="-1" strike="noStrike">
                <a:solidFill>
                  <a:srgbClr val="3d3d3d"/>
                </a:solidFill>
                <a:latin typeface="Gill Sans MT"/>
              </a:rPr>
              <a:t>au legea cu privire la economia socială, la ei întreprinderile sociale au o poziție prioritară, se simte o atitudine specială față de ele, nu ca la noi, sunt tratate ca simple SRL, orice ar prevedea legea.” (6IA, AO) „Trebuie o lege specială, de reglementat întreprinderile sociale și antreprenoriatul social așa cum sunt reglementate SRL de exemplu. Din start proiectul a fost viciat, nu a fost luată în considerare latura socială, nu putem merge pe modelul țărilor bogate și dezvoltate, trebuie luat modelul social, al României.” (4IA, CNpA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Legislația prevede anumite facilități fiscale și nonfiscale, care din păcate în realitate nu sunt implementate, pentru că nu au corespondent în legislația secundară de aplicare. De exemplu, deși Legea nr. 845/1992 stipulează că statul acordă facilităţi fiscale pentru dezvoltarea antreprenoriatului social conform Codului fiscal, în Codul fiscal nu sunt prevăzute facilități speciale pentru ÎS și ÎSI. Aceste întreprinderi au același regim fiscal ca SRL-urile, fapt confirmat și în cadrul discuțiilor cu reprezentanții asociațiilor obștești</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3"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Conform art.15 lit.a) din Codul fiscal, suma totală a impozitului pe venit pentru persoane fizice este determinată în mărime de 12% din venitul anual impozabil. Persoanele angajate prin contract individual de muncă, persoanele aflate în raporturi de serviciu în bază de act administrativ sau prin alte tipuri de contracte civile în vederea executării de lucrări sau prestării de servicii, (indiferent de faptul muncesc acestea cu program deplin, parțial, au sau nu un oarecare grad de dizabilitate) se consideră persoane lucrătoare și sunt pasibile asigurării sociale de sta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615" name=""/>
          <p:cNvSpPr txBox="1"/>
          <p:nvPr/>
        </p:nvSpPr>
        <p:spPr>
          <a:xfrm>
            <a:off x="580680" y="2180880"/>
            <a:ext cx="11030040" cy="3678120"/>
          </a:xfrm>
          <a:prstGeom prst="rect">
            <a:avLst/>
          </a:prstGeom>
          <a:noFill/>
          <a:ln w="0">
            <a:noFill/>
          </a:ln>
        </p:spPr>
        <p:txBody>
          <a:bodyPr anchor="ctr">
            <a:normAutofit/>
          </a:bodyPr>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3d3d3d"/>
                </a:solidFill>
                <a:latin typeface="Gill Sans MT"/>
              </a:rPr>
              <a:t>„</a:t>
            </a:r>
            <a:r>
              <a:rPr b="0" lang="ro-RO" sz="2400" spc="-1" strike="noStrike">
                <a:solidFill>
                  <a:srgbClr val="3d3d3d"/>
                </a:solidFill>
                <a:latin typeface="Gill Sans MT"/>
              </a:rPr>
              <a:t>Prevederile legale sunt declarative, fiecare le interpretează cum dorește, este necesar a le dezvolta și aplica în practică. Sunt necesare mecanisme, instrucțiuni, regulamente, care să prevadă descrierea proceselor și procedurilor publice, de ex. contractelor rezervate de achiziții publice.” (9IA, ÎS) „Legea spune că ÎS ”poate” fi scutită de taxe, i se ”poate” transmite unele bunuri, dar nu sunt prevederi obligatorii ce ar stipula expres aceasta. Astfel, fiecare interpretează în felul lui.” (10IA, ÎS)</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CONCLUZII: ANTREPRENORIATUL SOCIAL </a:t>
            </a:r>
            <a:endParaRPr b="0" lang="en-US" sz="28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a:bodyPr>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Cu toate că Legea nr. 845/1992 stipulează că statul acordă facilităţi fiscale pentru dezvoltarea antreprenoriatului social, în Codul fiscal nu sunt prevăzute facilități speciale pentru ÎS și ÎSI, aceste întreprinderi având același regim fiscal ca SRL-urile. Continuă să rămână neclară situația în privința plății impozitului pe venit din activitatea operațională a ÎS și ÎSI. </a:t>
            </a:r>
            <a:endParaRPr b="0" lang="en-US" sz="1600" spc="-1" strike="noStrike">
              <a:solidFill>
                <a:srgbClr val="3d3d3d"/>
              </a:solidFill>
              <a:latin typeface="Gill Sans MT"/>
            </a:endParaRPr>
          </a:p>
          <a:p>
            <a:pPr marL="304920" indent="-304920" algn="just">
              <a:spcBef>
                <a:spcPts val="400"/>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hiar dacă legislația prevede un mecanism de evaluare, din punct de vedere practic, în Moldova nu există un sistem unificat de monitorizare și evaluare a întreprinderilor sociale. Donatorii și organizațiile care oferă sprijin întreprinderilor sociale folosesc metodologiile proprii pentru monitorizarea și evaluarea întreprinderilor sociale/ONG-urilor. Adesea aceste monitorizări sunt limitate la monitorizarea proiectului per ansamblu și nu includ activitățile economice ale organizației. </a:t>
            </a:r>
            <a:endParaRPr b="0" lang="en-US" sz="1600" spc="-1" strike="noStrike">
              <a:solidFill>
                <a:srgbClr val="3d3d3d"/>
              </a:solidFill>
              <a:latin typeface="Gill Sans MT"/>
            </a:endParaRPr>
          </a:p>
          <a:p>
            <a:pPr marL="304920" indent="-304920" algn="just">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3d3d3d"/>
                </a:solidFill>
                <a:latin typeface="Gill Sans MT"/>
              </a:rPr>
              <a:t> </a:t>
            </a:r>
            <a:r>
              <a:rPr b="0" lang="ro-RO" sz="1600" spc="-1" strike="noStrike">
                <a:solidFill>
                  <a:srgbClr val="3d3d3d"/>
                </a:solidFill>
                <a:latin typeface="Gill Sans MT"/>
              </a:rPr>
              <a:t>Conceptul de antreprenoriat social este tratat doar tangențial în domeniul educației. Însă programul școlar este destul de complex și încărcat, de aceea nu se recomandă formarea unei discipline separate privind antreprenoriatul social</a:t>
            </a:r>
            <a:r>
              <a:rPr b="0" lang="ro-RO" sz="2400" spc="-1" strike="noStrike">
                <a:solidFill>
                  <a:srgbClr val="3d3d3d"/>
                </a:solidFill>
                <a:latin typeface="Gill Sans MT"/>
              </a:rPr>
              <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619" name=""/>
          <p:cNvSpPr txBox="1"/>
          <p:nvPr/>
        </p:nvSpPr>
        <p:spPr>
          <a:xfrm>
            <a:off x="838080" y="1739520"/>
            <a:ext cx="10515600" cy="4351320"/>
          </a:xfrm>
          <a:prstGeom prst="rect">
            <a:avLst/>
          </a:prstGeom>
          <a:noFill/>
          <a:ln w="0">
            <a:noFill/>
          </a:ln>
        </p:spPr>
        <p:txBody>
          <a:bodyPr anchor="t">
            <a:normAutofit/>
          </a:bodyPr>
          <a:p>
            <a:pPr marL="343080" indent="-343080" algn="just">
              <a:lnSpc>
                <a:spcPct val="7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cu privire la organizațiile necomerciale, Nr. 86 din 11.06.2020, art. 6.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privind antreprenoriatul și întreprinderile, nr. 845-XII din 3.01.1992, Capitolul VI1.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Republicii Moldova cu privire la fundații nr. 581-XIV din 30.07.1999, art. 231</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cu privire la serviciile sociale, nr. 123 din 18.06.2010, art. 11 (2).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incluziunea socială a persoanelor cu dizabilități, nr. 60 din 30.03.2012, art. 32, 36;</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egea privind ocuparea forței de muncă și protecția socială a persoanelor în căutarea unui loc de muncă, nr. 102-XV din 13.03.2003.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Legea Nr. 223 din 02.11.2017 privind modificarea și completarea unor acte legislative.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Hotărârea de Guvern nr. 1165 din 28.11.2018 cu privire la aprobarea Regulamentului de organizare și funcționare a Comisiei Naționale pentru Antreprenoriat Social și a listei genurilor de activitate ce constituie activități de antreprenoriat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Ordinul Ministrului Economiei și Infrastructurii nr. 130 din 23 Mai 2019 privind instituirea Comisiei Naționale pentru Antreprenoriatul Social.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lementările internaționale Basel III. </a:t>
            </a:r>
            <a:endParaRPr b="0" lang="en-US" sz="1500" spc="-1" strike="noStrike">
              <a:solidFill>
                <a:srgbClr val="000000"/>
              </a:solidFill>
              <a:latin typeface="Calibri"/>
            </a:endParaRPr>
          </a:p>
          <a:p>
            <a:pPr marL="343080" indent="-343080" algn="just">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r>
              <a:rPr b="0" lang="ro-RO" sz="1500" spc="-1" strike="noStrike">
                <a:solidFill>
                  <a:srgbClr val="000000"/>
                </a:solidFill>
                <a:latin typeface="Calibri"/>
              </a:rPr>
              <a:t>Regulamentul privind cadrul de administrare a activității băncilor aprobat prin HCE al BNM nr.322 din 20.122018 (în vigoare 04.04.20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5"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Antreprenoriatul social este un concept folosit în multe state şi este tipul de antreprenoriat care are ca scop creşterea bunăstării societăţii, scop care are o preponderență mai mare decât obiectivul maximizării profitului.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rofitul întreprinderilor care practică antreprenoriatul social se reinvesteşte pentru a susţine o cauză socială, a identifica noi nevoi sociale, a încuraja incluziunea în societate a persoanelor cu dizabilităţi, a realiza pieţe pentru nevoile neacoperite, a asigura ocuparea forţei de muncă şi a utiliza resurse alternativ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7"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3d3d3d"/>
                </a:solidFill>
                <a:latin typeface="Gill Sans MT"/>
              </a:rPr>
              <a:t>La 02 noiembrie 2017 a fost adoptată Legea privind modificarea şi completarea unor acte legislative (Legea nr. 845/1992 cu privire la antreprenoriat şi întreprinderi), prin care a fost reglementat legal domeniul antreprenoriatului social. În conformitate cu prevederile art. 361 din Legea nr. 845/1992, activitatea de antreprenoriat social este desfășurată de întreprinderi sociale și întreprinderi sociale de inserț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Statutul de întreprindere socială sau statutul de întreprindere socială de inserţie se atribuie de Comisia Naţională pentru Antreprenoriat Social, conform alin.(3) al art. 362 al aceleiași leg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79"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Prin Hotărârea nr. 1165 din 28.11.2018 a fost aprobat Regulamentul de organizare și funcționare a Comisiei Naționale pentru Antreprenoriat Social</a:t>
            </a:r>
            <a:r>
              <a:rPr b="0" lang="ro-RO" sz="2000" spc="-1" strike="noStrike">
                <a:solidFill>
                  <a:srgbClr val="3d3d3d"/>
                </a:solidFill>
                <a:latin typeface="Gill Sans MT"/>
              </a:rPr>
              <a:t> și lista genurilor de activitate ce constituie activități de antreprenoriat social. Regulamentul conține stipulări cu privire la modul de organizare şi funcționare a Comisiei, componența nominală a acesteia, modul de atribuire şi de retragere a statutului de întreprindere socială sau de întreprindere socială de inserţie, inclusiv procedura de examinare a solicitării privind atribuirea unui astfel de statut, precum şi controlul privind conformarea la statutul de întreprindere socială sau de întreprindere socială de inserţi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1" name=""/>
          <p:cNvSpPr txBox="1"/>
          <p:nvPr/>
        </p:nvSpPr>
        <p:spPr>
          <a:xfrm>
            <a:off x="580680" y="2180880"/>
            <a:ext cx="11030040" cy="3678120"/>
          </a:xfrm>
          <a:prstGeom prst="rect">
            <a:avLst/>
          </a:prstGeom>
          <a:noFill/>
          <a:ln w="0">
            <a:noFill/>
          </a:ln>
        </p:spPr>
        <p:txBody>
          <a:bodyPr anchor="ctr">
            <a:normAutofit fontScale="98000"/>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Conform legii, definiția antreprenoriatului social este următoarea: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2000" spc="-1" strike="noStrike">
                <a:solidFill>
                  <a:srgbClr val="346c8a"/>
                </a:solidFill>
                <a:latin typeface="Gill Sans MT"/>
              </a:rPr>
              <a:t>Activitatea de antreprenoriat social, desfășurată de întreprinderile sociale și întreprinderile sociale de inserție, este orientată spre îmbunătățirea condițiilor de viață și oferirea de oportunități persoanelor din categoriile defavorizate ale populației prin consolidarea coeziunii economice şi sociale, inclusiv la nivelul colectivităţilor locale, prin ocuparea forţei de muncă, prin dezvoltarea serviciilor sociale în interesul comunității, prin creşterea incluziunii sociale. Întreprinderea socială este întreprinderea constituită de asociaţii obşteşti, fundaţii, culte religioase, instituţii private şi/sau persoane fizice care desfăşoară activităţi de antreprenoriat social în vederea soluționării unor probleme sociale de interes comunitar şi care îndeplinesc condițiile stabilite în leg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3"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3d3d3d"/>
                </a:solidFill>
                <a:latin typeface="Gill Sans MT"/>
              </a:rPr>
              <a:t>Întreprinderea socială de inserţie </a:t>
            </a:r>
            <a:r>
              <a:rPr b="0" lang="ro-RO" sz="2000" spc="-1" strike="noStrike">
                <a:solidFill>
                  <a:srgbClr val="3d3d3d"/>
                </a:solidFill>
                <a:latin typeface="Gill Sans MT"/>
              </a:rPr>
              <a:t>este întreprinderea socială care are ca scop crearea locurilor de muncă şi încadrarea, în mod prioritar, a persoanelor din categoriile defavorizate ale populaţiei.</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3d3d3d"/>
                </a:solidFill>
                <a:latin typeface="Gill Sans MT"/>
              </a:rPr>
              <a:t>Pot obţine statut de întreprindere socială societăţile cu răspundere limitată şi cooperativele de producţie, constituite de asociaţii obşteşti, fundaţii, culte religioase, instituţii private şi/sau persoane fizice care desfăşoară activităţi de antreprenoriat social, care îndeplinesc cumulativ </a:t>
            </a:r>
            <a:r>
              <a:rPr b="1" lang="ro-RO" sz="2000" spc="-1" strike="noStrike">
                <a:solidFill>
                  <a:srgbClr val="3d3d3d"/>
                </a:solidFill>
                <a:latin typeface="Gill Sans MT"/>
              </a:rPr>
              <a:t>următoarele condiţii:</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5" name=""/>
          <p:cNvSpPr txBox="1"/>
          <p:nvPr/>
        </p:nvSpPr>
        <p:spPr>
          <a:xfrm>
            <a:off x="580680" y="2180880"/>
            <a:ext cx="11030040" cy="3678120"/>
          </a:xfrm>
          <a:prstGeom prst="rect">
            <a:avLst/>
          </a:prstGeom>
          <a:noFill/>
          <a:ln w="0">
            <a:noFill/>
          </a:ln>
        </p:spPr>
        <p:txBody>
          <a:bodyPr anchor="ctr">
            <a:normAutofit fontScale="98000"/>
          </a:bodyPr>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esfăşoară activităţi în cel puţin unul dintre domeniile prevăzute la art. 36¹ punctul 4 din Legea nr. 845/1992 cu privire la antreprenoriat și întreprinderi;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b) asigură asociaţilor drept de vot egal, indiferent de participaţiunea la capitalul social;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c) reinvestesc cel puţin 90% din profit în realizarea obiectivelor din domeniile de antreprenoriat social, stipulate expres în actul de constitui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d) aplică principiul echităţii sociale faţă de angajaţi, asigurând niveluri de salarizare echitabile, între care nu pot exista diferenţe care să depăşească raportul de 1 la 5;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e) nu au datorii la bugetul public naţional; f) stipulează expres în actul de constituire domeniile în care desfăşoară activitatea;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g) nu distribuie proprietatea dobândită din momentul obţinerii statutului de întreprindere socială din activităţi de antreprenoriat social şi mai mult de 10% din profit între membrii şi fondatorii săi, inclusiv în caz de reorganizare sau lichidare; </a:t>
            </a:r>
            <a:endParaRPr b="0" lang="en-US" sz="1400" spc="-1" strike="noStrike">
              <a:solidFill>
                <a:srgbClr val="3d3d3d"/>
              </a:solidFill>
              <a:latin typeface="Gill Sans MT"/>
            </a:endParaRPr>
          </a:p>
          <a:p>
            <a:pPr marL="447840" indent="-447840" algn="just">
              <a:spcBef>
                <a:spcPts val="349"/>
              </a:spcBef>
              <a:spcAft>
                <a:spcPts val="601"/>
              </a:spcAft>
              <a:buClr>
                <a:srgbClr val="4590b8"/>
              </a:buClr>
              <a:buSzPct val="92000"/>
              <a:buFont typeface="Gill Sans M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3d3d3d"/>
                </a:solidFill>
                <a:latin typeface="Gill Sans MT"/>
              </a:rPr>
              <a:t>h) în caz de lichidare, transmite activele rămase după satisfacerea pretenţiilor creditorilor săi către una sau mai multe întreprinderi sociale, întreprinderi sociale de inserţie sau organizaţii necomerciale</a:t>
            </a:r>
            <a:endParaRPr b="0" lang="en-US" sz="1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ANTREPRENORIATUL SOCIAL </a:t>
            </a:r>
            <a:endParaRPr b="0" lang="en-US" sz="2800" spc="-1" strike="noStrike">
              <a:solidFill>
                <a:srgbClr val="ffffff"/>
              </a:solidFill>
              <a:latin typeface="Gill Sans MT"/>
            </a:endParaRPr>
          </a:p>
        </p:txBody>
      </p:sp>
      <p:sp>
        <p:nvSpPr>
          <p:cNvPr id="587"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3d3d3d"/>
                </a:solidFill>
                <a:latin typeface="Gill Sans MT"/>
              </a:rPr>
              <a:t>Statutul de întreprindere socială sau statutul de întreprindere socială de inserţie se atribuie de Comisia Naţională pentru Antreprenoriat Social pe un termen de 3 ani, cu posibilitatea prelungirii dacă se face dovada că sunt respectate condiţiile care au stat la baza atribuirii statutului respectiv, şi se obţine din momentul înscrierii sintagmei „Întreprindere socială” sau „Întreprindere socială de inserţie” în actele de constituire ale întreprinderii şi în registrul de stat în care se înregistrează persoana juridică respectivă.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346c8a"/>
                </a:solidFill>
                <a:latin typeface="Gill Sans MT"/>
              </a:rPr>
              <a:t>La moment, 4 SRL-uri au primit statutul1 de întreprindere socială (1) și, respectiv, întreprindere socială de inserție (3)</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52:51Z</dcterms:modified>
  <cp:revision>24</cp:revision>
  <dc:subject/>
  <dc:title>Naslov prezentacije</dc:title>
</cp:coreProperties>
</file>